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F3E7-8F5A-4840-9BDD-EEAF31D3D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87BF-A6F9-4217-B493-1FEDBCB5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CCD4-8046-4985-BE22-7E3BD4F8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6192-F5D2-42B8-91A9-2C96B2F43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755D-7417-4635-B75D-B143938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3B38-AA71-415A-A050-FC91D30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C197-80D2-47FC-AA61-9F53BED3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FD42-ACB3-46C4-B47D-B9F2E333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B959-243F-4398-9624-51D4EAD9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478E-153F-406F-B17C-0B254598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2DA7-6B30-4E37-A6DC-B10C385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7DEF-CC8C-4016-B59A-6227F049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BB54-D988-4352-8658-6B8EC833BA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352-FA48-4253-8455-2519EDE1C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87520" y="1378080"/>
            <a:ext cx="2184120" cy="2612880"/>
          </a:xfrm>
          <a:custGeom>
            <a:avLst/>
            <a:gdLst>
              <a:gd name="textAreaLeft" fmla="*/ 106560 w 2184120"/>
              <a:gd name="textAreaRight" fmla="*/ 2077560 w 2184120"/>
              <a:gd name="textAreaTop" fmla="*/ 106560 h 2612880"/>
              <a:gd name="textAreaBottom" fmla="*/ 2506320 h 2612880"/>
            </a:gdLst>
            <a:ahLst/>
            <a:rect l="textAreaLeft" t="textAreaTop" r="textAreaRight" b="textAreaBottom"/>
            <a:pathLst>
              <a:path w="21600" h="25840">
                <a:moveTo>
                  <a:pt x="3600" y="0"/>
                </a:moveTo>
                <a:arcTo wR="3600" hR="3600" stAng="16200000" swAng="-5400000"/>
                <a:lnTo>
                  <a:pt x="0" y="22240"/>
                </a:lnTo>
                <a:arcTo wR="3600" hR="3600" stAng="10800000" swAng="-5400000"/>
                <a:lnTo>
                  <a:pt x="18000" y="25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09520" y="3195720"/>
            <a:ext cx="1143000" cy="56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今回対象外範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09520" y="2273400"/>
            <a:ext cx="1143000" cy="41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ビジネスプロ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8400" y="1622520"/>
            <a:ext cx="1379520" cy="43632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部組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58840" y="3049560"/>
            <a:ext cx="1093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8400" y="276552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情報の関連（概略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380880"/>
          <a:ext cx="8458200" cy="698760"/>
        </p:xfrm>
        <a:graphic>
          <a:graphicData uri="http://schemas.openxmlformats.org/drawingml/2006/table">
            <a:tbl>
              <a:tblPr/>
              <a:tblGrid>
                <a:gridCol w="2011320"/>
                <a:gridCol w="1112760"/>
                <a:gridCol w="2597040"/>
                <a:gridCol w="995400"/>
                <a:gridCol w="828720"/>
                <a:gridCol w="912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ビジネスプロセス関連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ステム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04920" y="1079640"/>
            <a:ext cx="8458200" cy="55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1:00:35Z</dcterms:modified>
  <cp:revision>1</cp:revision>
  <dc:subject/>
  <dc:title>スライド 1</dc:title>
</cp:coreProperties>
</file>